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97A7-4590-4CBB-80F9-889CA0D7F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mall Group - New Cabin Partner (e.g., find a ratio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Whole group -  Read Aloud – Math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F9A-B688-406C-AAA5-4930F5C1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293-72DA-44D1-BA96-29055C25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2DD-F5EB-4A25-9E7E-75BED2D9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08C-3A7F-4EEC-8EE2-B66BDC08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3CB7-0C2C-4EF5-875D-A8FF1F2D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8C22-BAAB-4A85-B797-5953D318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10CE-1215-48B5-AA74-9B5D8CB6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A034-4C0D-426B-9A00-5B4C4BD0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B089-DDAA-41C5-8FC3-A7977353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02EC-7C75-4534-B476-53240475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E883-E644-488E-BEE5-1D03725C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951-A42C-4DEE-94AA-FC5E9D82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2ACA-CB8A-4E84-875D-72591409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6E31-D1BD-45A5-9084-6F40ACC3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7DDE-F4F3-4C4C-9E42-B2DA917F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5B47-A510-4216-A567-C0AFDB26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E4AB-B502-4040-9068-360EF45A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DCB-7EA3-4553-86A0-26E4184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ECC-9674-44EC-AE6B-40853D44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AB4-5480-448D-8265-A0BBB3D3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2B4-88CA-4363-82C4-B7714312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598-1D57-4957-A265-91B9F6BA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4AF-EEA8-4509-A30A-87AEE132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E17-A3FE-45E8-AC1B-B21374BE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A7D6-18EB-4331-9FAD-091FB2A0B8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CA7A-0FE5-4AE3-A354-C48B8A8AB8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www.harpercollinschildrens.com/harperchildrensImages/isbn/large/4/9780688092344.jpg&amp;imgrefurl=http://www.harpercollinschildrens.com/books/Doorbell-Rang-Pat-Hutchins/%3Fisbn13%3D9780688092344%26tctid%3D100&amp;usg=__NiKUHYbvf2Bu1o-rCGB28kKhxAM=&amp;h=648&amp;w=801&amp;sz=197&amp;hl=en&amp;start=5&amp;um=1&amp;itbs=1&amp;tbnid=mY45573W_fLhTM:&amp;tbnh=116&amp;tbnw=143&amp;prev=/images%3Fq%3Dthe%2Bdoorbell%2Brang%26um%3D1%26hl%3Den%26sa%3DX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Archery – Hitting the Targ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big ideas to filter expectations in order to create lesson goals and appropriate consolidation ques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efore/Part 1/Minds 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ok in your journal at this morning’s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assess the learning of your students from this morning’s consolidation problem? Use one idea per sticky n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your cabin partners (back of glyph c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your cabin group sort the notes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76176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efore/Part 1/Minds On …continue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ere did the Action problem connect with the Big Idea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hare with whol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have 100 Yugio cards a day for ten days. Or you can have 1 card doubled every day for 10 days.  What would you choo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uring/Part 2/Acti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512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The Doorbell Rang,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Hutchins, P.) – Part 1: Mi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4 post it notes and record each operation on a separat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 the story is read, hold up the operation card you connect with the situation in the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lve the problem:  How could I use each operation to determine the number of cookies each person would get if Grandma’s cookies (24) are combined with Ma’s cookies (12)? – Part 2: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Rectangl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628640"/>
            <a:ext cx="27306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fter/Part 3/Consolidati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y did the author not choose 19 as the number of cookies? – Part 3: Conso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, Pair, Write – Share with a partner at your table and record your thinking in your camp jour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3024000" cy="2452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05" name="Rectangle 2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024000" cy="22892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ment of Learn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505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t’s Talk:  How does problem posing help you to assess the learning of the big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ow do you see yourself using consolidation questions in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879640" cy="21794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tonnerj</cp:lastModifiedBy>
  <dcterms:modified xsi:type="dcterms:W3CDTF">2010-08-17T01:04:59Z</dcterms:modified>
  <cp:revision>151</cp:revision>
  <dc:subject/>
  <dc:title>Slide 1</dc:title>
</cp:coreProperties>
</file>